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dt" idx="40"/>
          </p:nvPr>
        </p:nvSpPr>
        <p:spPr>
          <a:xfrm>
            <a:off x="3847680" y="-360"/>
            <a:ext cx="29480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ftr" idx="4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 type="sldNum" idx="42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56672E-7753-45DF-BB6F-4B7A2E50A07E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投影片編號版面配置區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A335C2-1421-40E6-AF10-B0FEB55C40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3110040" y="495360"/>
            <a:ext cx="3294000" cy="24717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48960" y="3132000"/>
            <a:ext cx="7605720" cy="2967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879-35AB-47EC-A1D8-7690B8FC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1C4-6CFE-4A31-A59A-C7817A65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C3D7E-178D-49E4-AB2E-9BE8E7EC78C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6C2F4-60E7-4FDC-9857-4DBAB5802B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F95A5-110C-47B5-A0FC-A440AE56C1B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F10982-95C1-4AA2-97EE-E5A9639D708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EE278-6563-45A7-959A-6FAECD0EC8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E67D7-BBBE-4ECC-B692-54E48EC4189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ECCA1-CC63-4A7C-89B4-83CC6ECD4D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D75BB-25A5-4E7D-BC8B-DAB901E2ED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83C70-8F26-4CE0-8647-52F17BE26C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E57F-FA75-439A-B18B-927CD0550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E68-F516-4FFC-A338-E1D31994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29B3-03A1-49EC-990A-01FE954AD2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58B28-DCF0-406E-8D8C-B9A91AF529B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42F6-A955-4596-B468-EA5FA60D655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86957-9EA5-49F0-B410-0F8A9C097BA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A1BA-0F0A-4B73-8F0A-F13BE9D7149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1543-DA21-4D36-AB90-C76B3024302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5C37-24BC-459A-8A74-DE9F5E5DEB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8A2CB-B3EA-4503-991F-FCDA83BCD9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92D8-3DF0-43D6-B6F1-DB04430A49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3D16-EDE0-411E-9296-F45F825E5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734-D8CF-4A8B-9C42-E05AF547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4CCB8-1036-47B1-8EB4-67C4E6024D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022588-952D-44ED-941E-0446A620DC4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72A9D3-E801-4CC8-BEBE-995A3A0D6B8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A6407-1157-4FD6-AA68-EB66A1F9EE8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EB80E7-A9C2-4B86-BC81-18182479B1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9F740-CC04-4B1C-9B21-02B6ECB6BE1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76CAC2-AC7E-4B83-B9F7-C951697C1CA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0B908F-21DB-427E-BEEA-CE220B450F3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54B396-3D38-444E-B5AD-F466F332E01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D762B6-FF21-43D7-9256-9DC54F99F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0394B-B547-406F-9C7D-BF58768ED82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E652A3-5AD7-478C-9382-A6D14D6AE6B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C16A2C-956E-4FFE-B699-3DB04243B9A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4161A-836C-48D3-9F70-E5E950CBE22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E6782-C44F-4C7F-B8F4-C21D95870AC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AC4C3-EE66-4E0C-998A-FFF8F8A08C6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022A0-7319-48C8-84A2-2CB33905D3E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4D76A-D8A4-486A-890B-6C1DC0ECA6E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9FB51-D847-4A32-A8C1-8C51B8E85D0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BF368-28D9-466F-BD7F-7304F559A3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B70AF-81AF-4A82-8FDC-E71EC3F556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EFD73-37C2-4C85-9743-F94525386ED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1BB6E-6F32-4815-A5A8-D45FD26438B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87EB1-C2B2-4B66-9790-2D3042DF128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8B8A7-4A65-4FBC-BF70-D49CB9D68D8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99C73-052B-4C8D-9B4B-5A0123F1E9F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DD337-1F72-4ED7-92D5-14F02C6CC3A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6A47A-B053-49E2-9B88-C62B951065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00A51-9C9A-44FC-A886-8CCA92E501E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CC18B-C8FE-45FE-BE20-41DB8949710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98129-E09A-4794-8FD6-735E6B8198E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784DA-85F0-469D-8A86-55F0BA8807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D17E2-CA1C-4F61-8A5C-32E76B28A94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A846F-E22D-4F28-8468-E5A9D7E74B6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B3E8C-597D-4631-ABDA-0F18F993045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69464-8414-4ABC-BFBE-449EB96579B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0181D-045F-4174-99BE-CD2E3C9A849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867AE-D054-4583-BD19-4FB88E9A849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135E-8114-453A-9646-89564859A20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1EB5-0F8C-40CA-9773-E3FEB36599D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A51F5-70E9-4B78-A7B0-842164B29D5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9A15F-C4E5-4126-8B11-0E54491D9B6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5595D5-407F-4490-A95E-56A1D38516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7D6D2-980E-4F71-B13C-1839850E1FA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3ECA33-0F58-4E5C-B636-31BCAE6CB09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D4C271-75F6-4DA4-A064-AC69B0A3B40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17B36-2BEB-478D-8340-7E091139E72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DB38DD-D649-411F-B226-1D28E2D7B6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76475F-9844-4183-AB16-02D84002556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D64E68-B206-42B3-A7A2-216A6265BCB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8173B-BAA7-4C5A-82DF-94874D1203D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2C27F6-BF3C-40AF-BD9F-3CC43C1F307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12D879-0CB4-4E12-8006-6A31A381B54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DECE8-F264-469A-B2BD-83CE5AD029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C1C8F-5EEF-40DB-88EE-F0E4E45BF53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9828C-F02F-4982-990F-3A34C567301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39F28-C807-407C-82AB-5E6E47F7DCF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7A33A-EC6A-46AC-AF62-DC6AFFBCEDC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B49AD5-FADF-4C07-A6C3-C2BA1407C07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1D842-56EC-4C26-80E1-A455F2180E0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2FE85-49B0-497A-9F31-2B157DEC0EC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58276-2152-4321-915B-5BB8C32C50D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402FF-5DF2-4430-95B5-0CD2F161F4B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9E640-BB28-4C4C-AE01-8BA47F29ED8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79CED-B164-4812-8293-F8F42DD389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189BE-65C1-4301-8807-13832DA90C0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4CC3E-01CA-49C5-B82B-D6BD8CC1652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C5209-92FE-4012-84B8-F8C0768E898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C4C89-E16D-4445-BB8F-656EA84123B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104F-539B-400B-8998-FDE8FA24B05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5CDEF-1E7F-4DEB-804E-407C05F52C3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0904-FE17-4E71-A8B5-6AB53EC42E7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79D83-B96F-4D82-A83E-7E1A57643F6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3CC83-0738-48CE-AEBA-F7B70A09D44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AD2E1-3F78-4353-A6E0-CFEFF1386B6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B29B0-9657-4E2D-9A38-530276C755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00013-0E32-412B-91ED-4C72DCE5306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BDB87-80C3-4F16-904A-03B35261E73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2A27-DEB4-4969-810D-AB8650902DE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8AE7-929B-48FA-8F7E-5721AE3421B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277624-DB04-40E8-906B-C1B9AD2FC35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A35683-3DB4-4404-9CA5-90BD65D931D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B2BE1C-51AF-4F11-94BB-C2A45030660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BC6C1B-AC80-42BD-B382-B36858BBA13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A2AA4D-B3A6-4FFD-A427-5448B8E80C1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09DF6F-F931-4220-8C7A-EDF8B2FFC13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F66328-7409-4D40-829E-300BC2F6D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451-8FAC-4797-8228-003AAD3B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7DC36-BBCF-490D-9B17-2213B04CCD7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6C53E4-144A-43B5-B605-784D6B95DF5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D4E45A-81AB-450D-871D-F8FD6646732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46A9D3-6326-4C70-95EF-A28EC60CE61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C4A30C-8CC6-40D6-A4DA-5D6F1FD2272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35C8C8-969F-4343-B6FA-07A7FB44742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84E52-1921-481F-8F72-B8B7AFD8AAC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890F7-B70F-4B84-AE89-56F4C4DFD68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B7E97-2822-40E5-A4DF-88D54B02666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CED24-0F6E-4DB7-8EE3-95D7B0EC605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4B933-6F89-4686-95DA-32C0E48622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E1195-75F3-4B7C-A6BB-71BF2D9F773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B4EDD-2376-412D-97A7-180C89E3511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3DE0B-2910-42E1-A0C0-CF52C8450D9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31614-CA7A-4807-9500-1B677DB741A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7C49C-2978-403D-92A4-B93799E8D5E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AF048-70E5-4D0B-8111-7769C427A7B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8164A-B772-4749-B4B3-2082729EA48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08FB7-7815-4F71-A855-6E938FC76D4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99362-127A-4EFC-8067-D67C2BC79BE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3DACC-E7A5-457E-ADA3-286FE06C56A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4A58C-3629-4F75-8760-72398B43C6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E4E75-21C8-4912-BEB7-E96B88FD62E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985CC-809B-440B-AFF2-EB249C92B98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64F86-0F7C-4060-BDF7-FAB14D2DC25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F785A-3ACF-4DB7-9651-AAAC6D14ED4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C45AD-3EBC-470B-80A5-D1425523C37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B9099-0731-483D-8358-8CF81544744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67E3E-FF47-4823-AF48-AECE55F803A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13CEF-81B5-49B4-9386-90A8B2EBF45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CF867-8993-437B-82C2-E9E667280A7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DC69A-0063-4402-9DF0-45F570B7CC8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4E601C-C88C-4A2C-B0E4-27578B1EF7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00FF8-F918-40CC-BF05-F85B0F227E0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0C0A1F-0919-445E-B7DF-63AECF96B85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C36642-1C12-42F9-B741-6A887937F96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DD0BEF-84BB-443D-8E0B-DAAA6B793FF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B197B0-2037-4309-B319-85085E70E3E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5EDB89-D8D5-4C7D-92B3-28363586297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B96482-43B4-4E64-AD29-377ECB1F5CF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52FE73-6E13-4B03-AF79-F40FC236DC6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0F2570-0A97-4830-8590-1FB289A98F8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06E285-5244-4D3C-A857-1131140B6E1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69E1E-D8AD-4ADC-A834-4928102A68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D16A4-50E7-41AF-9E63-5923723831D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486789-5E11-418F-BBAB-CDBB228C517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832F37-9CE7-4F76-B774-963D7CC7BA0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B8A808-8535-40D4-BD22-9D4811D5F8B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92758A-CC48-4027-AADC-79C284B76C0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74E53E-A8DB-427F-A6E7-3997E13E0C1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D3C905-1FB5-40C3-87BE-571DCCB829A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00E583-DD41-4FA6-A53E-ECD43F098F6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DB3953-75B7-4BAA-ABDC-00F5FF90AB6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23450-61B0-4D6E-85C4-C2E987DEF9B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07BBFB-C6B4-4AC4-87D1-A28217B317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6D66D-7789-4653-8A0E-93B1FA59C8E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C9A215-1795-4F27-A669-34751BCB85A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8562A-8C51-479B-8282-0F31EAB6300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E6D151-B84F-4790-B811-39AFB76B3F8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80382-0761-49FB-AD63-0CD4F1DDAF2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71199-373C-4D54-999E-957BE1066D2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8F483-2085-40CA-8DC8-8BD6C3A0CD1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2ED9-BBA1-46BB-806A-60FD1573936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EA126-8821-4745-AEC5-47B77EA9920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DD1D5-FBB0-4499-859A-FFFE528F2AF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E70A4-A3ED-4D72-84CE-4D6F4BE264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675D4-934F-4099-A7AB-0BF966F3DAF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B025B-64B5-45BE-859C-87C63B53046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BC505-6EBA-4DE4-9B0E-B9180C8D20F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56E8E-03E5-48A1-813F-B2B729EC75C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3BAAE-563B-4A9F-90C5-A829EEFBA8E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09028-448D-4262-8721-DC16379BF63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C790A-29A5-456C-A416-71D410295C1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09BE9-E889-4E79-9590-1EE83033971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5AC38-3C9F-4E3E-9E6D-CC5971F7B8F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3D608-DFDD-45F1-BE63-F26384C55BD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83D65-F15E-4B48-8E75-338E11BE54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CD5EE-113A-4485-9041-07AB79AA473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7896C-187C-4135-8F28-0A066D60E7F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7F755-5204-4763-8876-2D72E73D372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83997-F57C-44B5-8A11-8613D6FA9AD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15BB3-3CDF-48DC-9274-38A1F59D98B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1D25D-B484-45B2-8B2A-2EE3E74BF00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B42E5-6DFB-464E-953A-2431DD2942B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4CE27-B640-4828-B55A-9F8BA54EAE2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09A19D-407D-4CB8-BE66-F90DB9BC549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7ADB57-C36E-4D3B-8C0E-76D07770F24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96F22-A313-4A5C-ABBC-FFD770C243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0B57E-4B13-494E-A39D-E67DEC25458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D311C-6FEE-4A37-B68E-C6E7F1F2431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A37777-7B01-4DD4-890A-8B4A4ABA5D1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847815-F6B7-4C1E-BEC7-DA388C23943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C3BF98-FF0A-4B55-A5CB-7268D8692A5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B61FAB-0178-465E-8B18-794AB035B93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156CA7-3532-4176-BFE0-B1407DBE946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1ED38-8AA5-4BB8-9D97-B2492C35CD3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B3A0C-1F00-45FF-8FF3-541DBC4D17A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B4C53-EED5-4529-91CB-DE8C83787CD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D526B-278A-4925-8023-B960379522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20A63-B643-480D-8614-6837CE7CF98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0330D-959C-4634-A55F-036C557705B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05200-20EA-4713-89D4-7C20A23B065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6EFE9-66DF-428E-B736-6FCDEB27F83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25D39-0E08-4575-8F1A-F67AC712BA4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4C83B-74AC-4FFA-AC87-F04AC6FA998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F2A30-E694-40BF-B192-0A9118A13F7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CB2DA-03FE-41CC-B4C2-0D830418BF7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6455A-E686-4A35-9388-1DF50346006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D7478-AEB0-46B6-B319-41E8D4E6DF6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694B3-4950-46BE-BAA7-BD685E2D8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BF0-7EC0-4CDC-827A-99B96E0B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BAD19-B7C7-44D6-8D66-1458E921B31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EADD6-DE4D-4042-AC67-8D5CDCE47F9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A781E-36E3-4ADB-AAD8-E6C3F8A5411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0D067-3DCE-43A1-AB10-B68B4B2362E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61FA4-A85C-492B-B033-AFD90472DF6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5C755-2B31-4221-9B47-56DE2DE1DBB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ED570-3FF0-42B3-A88A-FC488C047F8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B6CA3-F8C6-409D-97BF-38D680DF549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648B7-8BCD-4EE3-AB2E-083355071E1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D3BCA-3C17-45D9-A477-365BEBC610D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0FEB7-A1F3-4CA4-B798-45BF9DD944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BF1CB-08CC-4BE9-B289-ED61A557EAC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AE1E3-01E1-49AC-B5D5-B9BF354D7D2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F00A7-562A-4704-BD0F-5048B4171CD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16673-C0A0-4C41-ADE6-D3A1832A0E5A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1A2A45-5C5A-49BF-BE3C-B0002CAAB70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58D8AD-8775-462F-84B0-F6E7E4D649AE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4F0B7-13EC-4EA6-A50D-6958344B3B9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D5204F-4D66-4EE6-BA4F-2190706C88B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367A37-EF0D-4DBE-A75E-F9AF960E3A0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AF7BEB-34A9-4AA5-A8A6-CF9C08567BE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F9A000-8077-4018-B939-DF8A26349B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4A668-8652-4C96-A2FE-C09C24F8678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3DE8DC-E253-48E8-A84D-362D605BCF9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10C742-CF0A-4BC5-BA99-1C8DC8088C6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604CA9-B1AC-4CC5-B734-81AEF535162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89B975-48B9-4753-B296-261B4A484C5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4B2692-DEDE-4521-A3AC-78A60129ABD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B7133-2157-4A2C-8FC2-D65FF33C1BC0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28359-A3B2-46F1-A9CD-7A3A058B6B6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8A33C-C0D3-47B3-8D94-A2D2DD05DB5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9F99A-E3D6-4634-81B8-BB028047A61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20C3A-3096-42ED-AB04-19823E05E2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0606E-48DE-4C44-9989-167061A9D41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ED568-431C-4E13-B3BD-B0B799DFC2D7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EA3D0-D56D-4A65-88CD-4979D1B40CE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FCEF3-9B2B-4FAC-8067-5C9C1383B9B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66062-DE02-4F61-961F-A367BD0BC4F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65F46-A8B5-4CC8-968A-FE337C41268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BDE50-37E4-463E-AB30-3FB42A54693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FCC18-2FDF-4B5D-BC08-0855AA2E2CC5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238FF7-365D-4308-AE56-5A5865A95BB2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E0889C-1DEC-487C-8698-4276086A7DD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C4657C-C80B-46FB-ABA7-FEC1F8074E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9012C-DC38-4A02-95AD-6593E10232A1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03BA2D-D5D4-4984-A10A-829BDA2C83A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E28543-A794-4A82-A001-5A08E0A15CF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D1AEF6-7158-48D4-BAB1-F61F78395F5B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EB13A6-CF72-44A2-BB5C-743691204783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D9A4A7-36DA-4293-8A39-BA12B943F76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EF5BA6-1970-40CA-B702-536EFA2F5CB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DD9BFD-2827-4FB8-9565-8561D9CB123B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0D050B-3B35-42E8-8121-A244E05AABB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6F205F-22FC-4D21-B0DF-06152E0A1952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938E35-41F2-4ED2-BFE6-756E4A7738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A1463-356C-440E-B72A-345A900E3DC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301003-1501-4EC2-B530-CB192B7A639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C7BAA6-4593-4726-AF3F-737CC5A7D3B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906C67-D318-46E9-82D0-512A2D55E4CA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5916C0-BFA3-4047-9A43-4AF703FC309F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CF8B24-2927-434B-8ED2-B3E40BFF552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28D89A-9F12-4941-9D1B-AFBD5B643BF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73AF31-18BA-48A6-B903-84B513D1528C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990DB7-862E-4FDD-9928-582D369E685E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A01F02-745A-4C3F-B7CC-E9584F488CC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9ABA91-0632-4FA4-949B-642818BD70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81175-FF10-449D-B6AB-FEDDB1807A5A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3C1666-9891-470E-BB96-DB908FBDC8F7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0E3B3-40FC-4DB1-B5F9-87003AD7D90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C2238-59E2-44DE-A416-C3070CB9C4EB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18B98-9304-43C1-A251-84F645A67DB5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4D052-2D53-4EF6-9B50-4B543C5162D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231F6-305A-44A8-8AE6-3D468F678F10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946D6-E0E5-4706-B9A9-0EF0980C304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D7D05-F712-4C66-A587-A17922A48695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ACD1B-1330-411C-92CB-553E52482646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2C5CB-1048-4892-9B57-EB02453283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89F0-B006-4561-B56E-BB5290AC71FC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590C1-46D1-408E-ABCA-9B806795881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875E8-CB19-433D-96A8-CE1AF4921D89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178C3-F613-49C8-ADDB-4BC634F7243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5EACC-D00A-4CC9-94DF-574433635BC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B484E4-D24D-4EB5-963D-8C2F13FFCCE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5D64B-D11D-4BB4-9EE0-4947D2C9C55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C5E6E-35BB-46B2-99D5-E198276CFEF1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25218-8BE7-42E8-8B23-ED7A2A77121C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E7AD2-22AB-40E1-A15D-CB76319CCCBE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D64C8-877F-4356-BBF0-3F22B219B7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1EB5-007F-41CB-8BB6-CCEC12A28DAD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13D69-4EB2-4400-8831-F2F5B2AEB1D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CCF39-F09D-48F4-9BAD-A2081A5CF52F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371B74-C4C7-4D80-BBF9-B1C55F5FF0F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266AC-0398-4293-93D7-0ECE69F41A2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CA1DE-388A-4F08-9890-9330DEFCE655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64CFCA-711C-4EF8-9283-4FB042FA145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F0BD54-C407-4672-A911-B1A5E515658A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8C5534-2F8D-4C7F-9E56-470A7FE6BC5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8CB13A-57F0-4697-8C0E-3EA3C8852D2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E2DAD9-42F8-40E3-B6F7-7BA4822BB7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B6DF-45C7-4D81-B9D2-AD68B296F998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55D666-3055-4385-8EE4-4AEE425E5507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C54DBB-58CD-4432-A408-B391584391BF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8F9971-F1A0-410B-B3F0-2648EE0B4F5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8DE705-6E9A-43F9-B3AF-89AF6D2B271A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849EBF-F819-492C-89A6-6A0C623346C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218023-B382-4C66-BA0C-45251AD57CCA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75922B-1FE1-4FE9-94C5-EEB54245039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29170-4333-44D8-AE62-71121DA84C00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902D5-DAF7-416E-B8A2-43E495BA2466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5C58A-6486-49CF-A48A-88C0EBEDB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3B7-4E1F-4F13-A723-F01C4CA6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A5D1-0A76-4062-914D-1D3D74245B2C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DD4B5-E047-411B-BE29-890080BE239A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2A237-A0F5-4548-9382-03FADE770D8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F4DB2-DD4B-4D26-92D4-6C433A00F4CC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F6547-5303-48EE-AFB6-9E5B0782C928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C3AD4-6573-43F3-BEA5-425DAC476017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F4081-117F-445D-893F-AFC7E78FE99B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ECE11-EFA7-40E6-B020-550B0DAD468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B2335-05BB-475F-A08E-ED6D5E8D4906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4AE89-ADB0-423D-9D9C-AC54E4231743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DF1BDB-0B56-4631-8C10-1A89E8D904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849B-042C-4782-BC13-960AA05B28D1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2249DE-49F7-407D-893F-8213BB35CCB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012598-2F34-4458-AED1-C60B9949E466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BFBC20-19CA-45B3-9FE5-8B46F72D9AD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FA7859-8CC2-45C2-98F8-3E39E741B3C4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26E5CF-7D79-476B-A792-C1D49566DAC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1202B9-9DED-47B4-95F3-18FCD2D80436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0C2ABF-42D3-4911-B3EE-9198ACD82301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C046E6-A1A1-4A17-93D4-09C8479F6C65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2704873-B65D-40E4-B61C-13EA16999E7B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360D9B-4C0E-4964-AD8E-01E0D46FCC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DFD3-A454-4987-A36A-CC2269E69C9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B30E8F-86A8-4874-AB8F-0831930E601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B5D0E0-251A-4076-815D-F71D6313F4FC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6DA172-AE8E-4A09-A6B8-88FBC26025F4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E772EC-B2EE-486E-8BDB-1C47A5AD5504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B27402-0FA6-4FF0-96C6-508E9E254B54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6EBA88-2A06-49E5-BB57-13A6EFED5C3F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06E3EF-C888-4FBC-A274-C77BB2ECA702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FF963C-E267-40E6-9975-A530C0A06DC1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8E098A-2001-4712-BA7F-06B0F0BE0FA7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FF1EBB-33FD-4DC0-A388-FF12A66C4E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C3B2-F535-49D5-A60C-65E304E44380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3C9D5E-E690-4BA2-9702-296F92D2C4E1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CC455C-5BEE-4138-8CDF-D0A28416B2D0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08EA4E-EF52-495B-A127-D7E86FA999DC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6F6CE-F042-495E-A73C-A53C3ACFCFB3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1FB60-B747-4CF9-AE86-E1EA1D7948E5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E82EE-A3CA-42AC-AD36-ABEFC49F5041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82E34-5E48-4E47-9E00-78B02DE8C87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B52E6-8F45-4C97-AB37-ED3F871AC6E6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07EF9-68E0-4427-8519-699B380C34C7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446BC-C495-4CDE-9237-5B21A99811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7605-4BEA-4FB5-80FC-09C557DC23AC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34E3F-416C-4797-9EDA-710ABC9B9D2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29975-2849-40CF-B154-E10A6E3F1795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A878B-A0D7-4A62-9D90-B5784A7B21B8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082F9-01D4-4812-9356-F535FD036D20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F8481-631E-4C8E-9F2C-97C440A41D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1411-97DE-4276-9291-3BB5E587C7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5537-B0C6-4770-BE9D-C58347E3DD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F8A2-4315-40EE-B4F1-47F9FA7315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CD0C-0CCE-481F-80A0-B18CEC9FCA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630621-CE3D-4CD8-9249-807766EBC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AF9-E559-4BB0-8B77-3BF663C8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A1997A-68C0-4287-A0F3-81F4DE7D1C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6A9FB3-DC92-4F95-A166-D10C73DE9E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EEEDFC-1CDA-4D25-B9B8-2237CE49AF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F0307A-614C-4D4B-9413-28E78D3DB2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E5F16-F436-442F-BB37-4CDD2B3DFE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41DC2-354C-4862-9FF0-0E6CBA895B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63028-600F-43EC-817C-E3D3CCA46A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8B77C-E54B-4173-AA40-C8AF046F51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ED61DC-D670-415D-A71B-98A04B2E5F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38574-CD12-4CCE-872D-316E9919D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5EB-3D17-471B-94D0-68C55EEB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41338-D2BA-48DB-9FA5-A85F7A4C4EA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943B6-16FD-4BE6-B1E4-99723694A6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0FC0B-2B1F-4F5E-AFEB-63DE4F74995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7E2BC-C435-4208-8A00-ADA05A3420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01852-4A5B-432E-B153-1AA4D34661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6547D-9847-4BA6-A29C-F0720BBC2F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D1058-9698-4149-A9F7-2E988068DE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AAE09-4E2D-42F8-A071-A01CFE152E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DAF1E-9D49-481A-88D9-3ECB62DF3BB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B2CE8-5FC9-4FDF-89C1-1DE4B0413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6EE-BB01-4F4D-ACBC-4F8C6C90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B4042-9AE1-4363-8AFF-37A73A80B7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CBB75-9EB8-42B9-86A6-12DC2970D27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D6891-F879-4C3E-BA96-C1CE32CE91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6A11-010B-4000-AD1F-DF6F9FFC330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C9BF-0A1B-4ED1-AD36-73E7ACD829E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2BFC-49E6-4D12-A292-E0BF5F62B15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3EF2-5A97-46EC-960F-267F6D85682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83C8-9DC3-43B6-8CE9-A84AF385DD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009E-38BC-48B2-B98B-ED34306E98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5236-CCB2-489D-9F11-F9EDDEF95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6EA-0A06-4C6F-AC72-83BA83BE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28A5-C1AF-42F3-9F02-AACFFFC42A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1779E-EEBF-4105-9FB2-F2CE1D3BF51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4C45-BF1D-4B74-83E8-1DE58458703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5079-02FE-480F-B5F9-53618C4DB2B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4D91-4879-4B92-8A07-3019165534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6FEBE-4E78-4FFE-BE9C-38958239F9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9A7A3F-3189-4C80-ACDA-F36CA6AF720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8E69B-AE3C-4255-AA40-B31861C9D29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08D95-0E5E-4D83-A6EB-D179049160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5E4B16-6017-4EC3-BC78-EA427A8A1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1C8-4174-4FEE-A2AD-14358C6F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572D42-43BE-4564-970E-7698644736C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373C6F-5A0E-4BA8-8527-1249A55F43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01CD2-809C-4D64-8BE2-F1DF5375DEE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DC760-D467-4046-A1BC-492DAE9CB1B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1ADC5-DFA4-4B7D-9362-E73BC4563D5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8FC31-9635-4C45-BE00-C8DDC2D243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8D20B-310F-40D1-A26A-70BADB67166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C0F5CD-8FB4-4A76-AA54-33D4DA75472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144F1-8144-4C29-9755-0B0F16090B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AFBF8-FA7C-4476-9A47-4D256A455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"/>
          <p:cNvSpPr/>
          <p:nvPr/>
        </p:nvSpPr>
        <p:spPr>
          <a:xfrm>
            <a:off x="609480" y="10969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66280" y="1439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9834-AC71-4A71-A8C7-45E4CF7B5C08}" type="datetime"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5/07/29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C871-ACED-41AA-A5D6-B4C3638E6A1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710480" y="5506920"/>
            <a:ext cx="1122480" cy="1351080"/>
            <a:chOff x="7710480" y="5506920"/>
            <a:chExt cx="1122480" cy="1351080"/>
          </a:xfrm>
        </p:grpSpPr>
        <p:pic>
          <p:nvPicPr>
            <p:cNvPr id="7" name="Picture 9" descr="健康署LOGO-OK-01"/>
            <p:cNvPicPr/>
            <p:nvPr/>
          </p:nvPicPr>
          <p:blipFill>
            <a:blip r:embed="rId2"/>
            <a:stretch/>
          </p:blipFill>
          <p:spPr>
            <a:xfrm>
              <a:off x="7710480" y="5506920"/>
              <a:ext cx="112248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文字方塊 1"/>
            <p:cNvSpPr/>
            <p:nvPr/>
          </p:nvSpPr>
          <p:spPr>
            <a:xfrm>
              <a:off x="8506080" y="5580000"/>
              <a:ext cx="28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Bauhaus 93"/>
                  <a:ea typeface="新細明體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ACED-70E2-4304-BC91-42C82A8D807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BB4A-7E30-4CBE-B86E-9A44DB5D180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16AA-A5DC-432E-B8AE-3C111759A6B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Num" idx="1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8497-27FF-498A-8DF3-7957EA36614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1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25EC-4424-4910-9999-093D0B25BB9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6EB9-EB59-4081-A767-6CB8C96D844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3F39-B366-4641-B102-473BB3914E5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1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37D2-A701-444B-AF00-531DA17B06F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687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8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689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sldNum" idx="2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88BB-AD1E-47D1-9771-0EB4AFA894F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D7E8-B790-445E-A6E6-61F0EEDBEB5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1CEC2-065C-495E-AED9-8980D173B60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2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16BE-B1DB-4661-8E32-6B87B76CFFE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2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E9E9-ECCD-4D6B-B584-D51522A49DD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sldNum" idx="2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AD9D-8DB6-408C-B371-4B00A17776F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Num" idx="2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C20F-FF60-44E8-972D-C1BBEFB91B8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Num" idx="2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4D61-22B9-4F92-872A-2A42AB77E7F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sldNum" idx="2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10BC-7876-49A3-91DF-BE2E0497938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sldNum" idx="2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1DC-D499-439E-8E6C-7EA62F2AB74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sldNum" idx="2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6A97-F6A2-4175-A30B-D360BCAA903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Num" idx="3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078D-D4D4-4604-A07E-F8AAC275856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1131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2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1133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sldNum" idx="3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A5A9-DACC-41A0-BE58-8BDC5C5FEDB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8147D-5F8D-4373-BC23-93F686374DA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sldNum" idx="32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F7D0-8553-44C4-B020-269913BD287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sldNum" idx="33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1129-ABA1-4C2D-8005-D558E26C988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sldNum" idx="34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A640-640B-4F54-B2D0-07181722779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4" name="圖片 4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sldNum" idx="35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0DC0-526B-4897-B0E5-4F0E2E56ACB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sldNum" idx="3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5E6D-B992-420C-934B-3E96F4D2EDD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sldNum" idx="3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DD56-09C5-4629-9AC7-0402BFB5E4AB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sldNum" idx="3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9372-424D-409C-9602-72D813AEFFF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sldNum" idx="3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1A26-D773-415A-A1C1-BB18EBCB0ED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95F3D-4D78-4E9F-8627-C1CD63D7441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圖片 1" descr="簡報封面及內頁-綠色-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7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830B-376B-472D-BE32-891BD9B3CAFF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8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4C2-6FA5-4F3F-A7FD-96DD92D6E83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群組 4"/>
          <p:cNvGrpSpPr/>
          <p:nvPr/>
        </p:nvGrpSpPr>
        <p:grpSpPr>
          <a:xfrm>
            <a:off x="-7920" y="0"/>
            <a:ext cx="9152280" cy="6858000"/>
            <a:chOff x="-7920" y="0"/>
            <a:chExt cx="9152280" cy="6858000"/>
          </a:xfrm>
        </p:grpSpPr>
        <p:pic>
          <p:nvPicPr>
            <p:cNvPr id="243" name="圖片 1" descr="簡報封面及內頁-綠色-03.jpg"/>
            <p:cNvPicPr/>
            <p:nvPr/>
          </p:nvPicPr>
          <p:blipFill>
            <a:blip r:embed="rId2"/>
            <a:stretch/>
          </p:blipFill>
          <p:spPr>
            <a:xfrm>
              <a:off x="-7920" y="0"/>
              <a:ext cx="91396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4" name="群組 6"/>
            <p:cNvGrpSpPr/>
            <p:nvPr/>
          </p:nvGrpSpPr>
          <p:grpSpPr>
            <a:xfrm>
              <a:off x="0" y="1150560"/>
              <a:ext cx="9144360" cy="1856160"/>
              <a:chOff x="0" y="1150560"/>
              <a:chExt cx="9144360" cy="1856160"/>
            </a:xfrm>
          </p:grpSpPr>
          <p:sp>
            <p:nvSpPr>
              <p:cNvPr id="245" name="矩形 7"/>
              <p:cNvSpPr/>
              <p:nvPr/>
            </p:nvSpPr>
            <p:spPr>
              <a:xfrm>
                <a:off x="0" y="1153800"/>
                <a:ext cx="9144360" cy="1852920"/>
              </a:xfrm>
              <a:prstGeom prst="rect">
                <a:avLst/>
              </a:prstGeom>
              <a:solidFill>
                <a:srgbClr val="96ba32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" name="圖片 9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264600" y="1150560"/>
                <a:ext cx="778320" cy="77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9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DFE4-FB78-4650-9797-160FC9D0FB4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C3EA-D607-4FCC-A7F2-3F6F4D3F90D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圖片 1" descr="簡報封面及內頁-綠色-03.jpg"/>
          <p:cNvPicPr/>
          <p:nvPr/>
        </p:nvPicPr>
        <p:blipFill>
          <a:blip r:embed="rId2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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1"/>
          </p:nvPr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2654-F2B7-49F1-8BDF-9271A4508E2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-360" y="2865240"/>
            <a:ext cx="734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年地方衛生機關業務考評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保健類指標規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2274480" y="4597200"/>
            <a:ext cx="56912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</a:rPr>
              <a:t>衛生福利部國民健康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7664-967C-423F-9E2A-75F7D1479F7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15E-A259-4297-AFE1-DA0E159A423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"/>
          <p:cNvGraphicFramePr/>
          <p:nvPr/>
        </p:nvGraphicFramePr>
        <p:xfrm>
          <a:off x="93600" y="1197000"/>
          <a:ext cx="8836200" cy="4946760"/>
        </p:xfrm>
        <a:graphic>
          <a:graphicData uri="http://schemas.openxmlformats.org/drawingml/2006/table">
            <a:tbl>
              <a:tblPr/>
              <a:tblGrid>
                <a:gridCol w="2778120"/>
                <a:gridCol w="441360"/>
                <a:gridCol w="2567160"/>
                <a:gridCol w="438120"/>
                <a:gridCol w="261144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81432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肆、癌症篩檢與檳榔健康危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302920"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品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癌症篩檢達成率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疫苗校園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口腔癌篩檢偵測率成長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組織性篩檢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36440" indent="-136440">
                        <a:lnSpc>
                          <a:spcPct val="100000"/>
                        </a:lnSpc>
                        <a:tabLst>
                          <a:tab algn="l" pos="0"/>
                          <a:tab algn="l" pos="21600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以大腸癌為篩檢重點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V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校園宣導」指標，提倡國一女生施打子宮頸癌疫苗，免受子宮頸癌威脅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篩檢陽性個案追蹤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防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檳榔健康危害防制之規劃及推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成人嚼檳榔盛行率指標並調整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2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3BD1-B89A-421E-8D67-00FDDC6954F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12600" y="1052640"/>
          <a:ext cx="8964720" cy="5194080"/>
        </p:xfrm>
        <a:graphic>
          <a:graphicData uri="http://schemas.openxmlformats.org/drawingml/2006/table">
            <a:tbl>
              <a:tblPr/>
              <a:tblGrid>
                <a:gridCol w="2946600"/>
                <a:gridCol w="654120"/>
                <a:gridCol w="2619360"/>
                <a:gridCol w="653760"/>
                <a:gridCol w="209088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伍、婦幼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細部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3503880"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生性別比之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縮小出生性別差距之醫事人員教育訓練或民眾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母嬰親善的哺乳環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住民及新住民婦幼健康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生兒聽力篩檢陽性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兒童近視防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性健康促進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「營造母嬰親善的哺乳環境」中新增「</a:t>
                      </a:r>
                      <a:r>
                        <a:rPr b="0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母乳哺育之醫護人員教育訓練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，以期醫護人員能有效教導婦女增加總母乳哺育率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滿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兒童疑似異常個案完成確診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分數級距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Rectangle 2"/>
          <p:cNvSpPr/>
          <p:nvPr/>
        </p:nvSpPr>
        <p:spPr>
          <a:xfrm>
            <a:off x="250920" y="12708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449A-CECA-49BB-BA6C-116BA8902627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標題 2"/>
          <p:cNvSpPr/>
          <p:nvPr/>
        </p:nvSpPr>
        <p:spPr>
          <a:xfrm>
            <a:off x="574560" y="304920"/>
            <a:ext cx="8001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健康好幫手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  -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</a:rPr>
              <a:t>守護國民  促進健康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內容版面配置區 2"/>
          <p:cNvSpPr/>
          <p:nvPr/>
        </p:nvSpPr>
        <p:spPr>
          <a:xfrm>
            <a:off x="4421160" y="1906560"/>
            <a:ext cx="472284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標楷體"/>
              </a:rPr>
              <a:t>促進健康 </a:t>
            </a:r>
            <a:r>
              <a:rPr b="1" lang="en-US" sz="3200" spc="-1" strike="noStrike">
                <a:solidFill>
                  <a:srgbClr val="cc0000"/>
                </a:solidFill>
                <a:latin typeface="Bauhaus 93"/>
              </a:rPr>
              <a:t>Pro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</a:rPr>
              <a:t>預防疾病 </a:t>
            </a:r>
            <a:r>
              <a:rPr b="1" lang="en-US" sz="3200" spc="-1" strike="noStrike">
                <a:solidFill>
                  <a:srgbClr val="006600"/>
                </a:solidFill>
                <a:latin typeface="Bauhaus 93"/>
              </a:rPr>
              <a:t>Preven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</a:rPr>
              <a:t>安全防護 </a:t>
            </a:r>
            <a:r>
              <a:rPr b="1" lang="en-US" sz="3200" spc="-1" strike="noStrike">
                <a:solidFill>
                  <a:srgbClr val="000099"/>
                </a:solidFill>
                <a:latin typeface="Bauhaus 93"/>
              </a:rPr>
              <a:t>Prote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</a:rPr>
              <a:t>共同參與 </a:t>
            </a:r>
            <a:r>
              <a:rPr b="1" lang="en-US" sz="3200" spc="-1" strike="noStrike">
                <a:solidFill>
                  <a:srgbClr val="ff0066"/>
                </a:solidFill>
                <a:latin typeface="Bauhaus 93"/>
              </a:rPr>
              <a:t>Particip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200" spc="-1" strike="noStrike">
                <a:solidFill>
                  <a:srgbClr val="6600ff"/>
                </a:solidFill>
                <a:latin typeface="Times New Roman"/>
              </a:rPr>
              <a:t>夥伴合作  </a:t>
            </a:r>
            <a:r>
              <a:rPr b="0" lang="en-US" sz="3200" spc="-1" strike="noStrike">
                <a:solidFill>
                  <a:srgbClr val="6600ff"/>
                </a:solidFill>
                <a:latin typeface="Bauhaus 93"/>
              </a:rPr>
              <a:t>Partnersh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群組 4"/>
          <p:cNvGrpSpPr/>
          <p:nvPr/>
        </p:nvGrpSpPr>
        <p:grpSpPr>
          <a:xfrm>
            <a:off x="365040" y="1654200"/>
            <a:ext cx="4413240" cy="4162320"/>
            <a:chOff x="365040" y="1654200"/>
            <a:chExt cx="4413240" cy="4162320"/>
          </a:xfrm>
        </p:grpSpPr>
        <p:pic>
          <p:nvPicPr>
            <p:cNvPr id="1540" name="圖片 16" descr=""/>
            <p:cNvPicPr/>
            <p:nvPr/>
          </p:nvPicPr>
          <p:blipFill>
            <a:blip r:embed="rId1"/>
            <a:stretch/>
          </p:blipFill>
          <p:spPr>
            <a:xfrm>
              <a:off x="365040" y="4989960"/>
              <a:ext cx="4398480" cy="82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1" name="文字方塊 1"/>
            <p:cNvSpPr/>
            <p:nvPr/>
          </p:nvSpPr>
          <p:spPr>
            <a:xfrm>
              <a:off x="2517840" y="3666600"/>
              <a:ext cx="2260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9ec105"/>
                  </a:solidFill>
                  <a:latin typeface="Bauhaus 93"/>
                  <a:ea typeface="新細明體"/>
                </a:rPr>
                <a:t>HPA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2" name="圖片 3" descr=""/>
            <p:cNvPicPr/>
            <p:nvPr/>
          </p:nvPicPr>
          <p:blipFill>
            <a:blip r:embed="rId2"/>
            <a:stretch/>
          </p:blipFill>
          <p:spPr>
            <a:xfrm>
              <a:off x="994320" y="1654200"/>
              <a:ext cx="15433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090080" y="480600"/>
            <a:ext cx="805356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</a:rPr>
              <a:t>大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投影片編號版面配置區 3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1B3F-9357-4584-BE83-F21F0EBC632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455760" y="134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7E53-09E4-4306-9C21-D633B7CE97D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4356000" y="1413000"/>
          <a:ext cx="4103640" cy="483228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99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健康生活環境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1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老年健康促進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29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癌症篩檢與檳榔健康危害防制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婦幼健康促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430200" y="1413000"/>
          <a:ext cx="3781440" cy="4830480"/>
        </p:xfrm>
        <a:graphic>
          <a:graphicData uri="http://schemas.openxmlformats.org/drawingml/2006/table">
            <a:tbl>
              <a:tblPr/>
              <a:tblGrid>
                <a:gridCol w="3781440"/>
              </a:tblGrid>
              <a:tr h="100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本指標分數係以下列子計畫總得分再乘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8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菸害防制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＊加分機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17520" y="404640"/>
            <a:ext cx="7200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壹、考評規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12DE-1D1A-43E1-82D8-EBCFC509C961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文字方塊 6"/>
          <p:cNvSpPr/>
          <p:nvPr/>
        </p:nvSpPr>
        <p:spPr>
          <a:xfrm>
            <a:off x="747720" y="1413000"/>
            <a:ext cx="67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8</a:t>
            </a:r>
            <a:r>
              <a:rPr b="0" lang="zh-T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年</a:t>
            </a:r>
            <a:r>
              <a:rPr b="0" lang="zh-TW" sz="2800" spc="-1" strike="noStrike">
                <a:solidFill>
                  <a:srgbClr val="c00000"/>
                </a:solidFill>
                <a:latin typeface="Calibri"/>
              </a:rPr>
              <a:t>指標數量及配分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4" name=""/>
          <p:cNvGraphicFramePr/>
          <p:nvPr/>
        </p:nvGraphicFramePr>
        <p:xfrm>
          <a:off x="539640" y="2276640"/>
          <a:ext cx="7777440" cy="1582560"/>
        </p:xfrm>
        <a:graphic>
          <a:graphicData uri="http://schemas.openxmlformats.org/drawingml/2006/table">
            <a:tbl>
              <a:tblPr/>
              <a:tblGrid>
                <a:gridCol w="1656000"/>
                <a:gridCol w="1224000"/>
                <a:gridCol w="936360"/>
                <a:gridCol w="720720"/>
                <a:gridCol w="1440000"/>
                <a:gridCol w="1008000"/>
                <a:gridCol w="792360"/>
              </a:tblGrid>
              <a:tr h="3661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子計畫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指標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衛生保健工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97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AAF7-5F98-45E8-A63A-A44D0B748882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108000" y="1171440"/>
          <a:ext cx="8893080" cy="5281920"/>
        </p:xfrm>
        <a:graphic>
          <a:graphicData uri="http://schemas.openxmlformats.org/drawingml/2006/table">
            <a:tbl>
              <a:tblPr/>
              <a:tblGrid>
                <a:gridCol w="2519280"/>
                <a:gridCol w="649440"/>
                <a:gridCol w="2590560"/>
                <a:gridCol w="649440"/>
                <a:gridCol w="24843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52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吸菸率下降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整體策略目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年吸菸率下降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電子煙吸食率下降目標達成情形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另青少年電子煙的吸食率已逐年快速攀升，期縣市納入未來青少年菸害防制重點工作項目，故增加「青少年電子煙吸食率下降目標達成情形」；未來將視該監測調查規劃情形配合修正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3400"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菸害防制執法稽查取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平均合格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A500-8D91-4354-984A-70288549027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179280" y="1413000"/>
          <a:ext cx="8859960" cy="4743360"/>
        </p:xfrm>
        <a:graphic>
          <a:graphicData uri="http://schemas.openxmlformats.org/drawingml/2006/table">
            <a:tbl>
              <a:tblPr/>
              <a:tblGrid>
                <a:gridCol w="2484720"/>
                <a:gridCol w="755640"/>
                <a:gridCol w="2520720"/>
                <a:gridCol w="792360"/>
                <a:gridCol w="2306520"/>
              </a:tblGrid>
              <a:tr h="369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5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青少年菸害防制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執法成效實地訪查：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條合格率（喬裝測試）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調整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7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戒菸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成人二代戒菸服務人數目標達成情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六個月點戒菸成功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期各縣市加強輔導醫療院所提供之戒菸服務，並提升戒菸成功率，故提高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投影片編號版面配置區 1"/>
          <p:cNvSpPr/>
          <p:nvPr/>
        </p:nvSpPr>
        <p:spPr>
          <a:xfrm>
            <a:off x="858996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8F30-D7E3-4B3C-A2F4-A287953AC73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2"/>
          <p:cNvSpPr/>
          <p:nvPr/>
        </p:nvSpPr>
        <p:spPr>
          <a:xfrm>
            <a:off x="250920" y="189000"/>
            <a:ext cx="81597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菸害防制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128520" y="1268280"/>
          <a:ext cx="8702640" cy="5378760"/>
        </p:xfrm>
        <a:graphic>
          <a:graphicData uri="http://schemas.openxmlformats.org/drawingml/2006/table">
            <a:tbl>
              <a:tblPr/>
              <a:tblGrid>
                <a:gridCol w="2435400"/>
                <a:gridCol w="639720"/>
                <a:gridCol w="2305080"/>
                <a:gridCol w="801720"/>
                <a:gridCol w="2520720"/>
              </a:tblGrid>
              <a:tr h="373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壹、菸害防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248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共場所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職場二手菸暴露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無菸環境與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校園二手菸暴露率（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青少年室內公共場所二手菸暴露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8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因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暫不進行「成人吸菸行為調查」，刪除「公共場所二手菸暴露率」、「職場二手菸暴露率」，增加「青少年校園二手菸暴露率」、「青少年室內公共場所二手菸暴露率」以監測各縣市無菸環境成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其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目標達成情形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行政配合及處理時效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為加強各縣市計畫目標達成情形，提高其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投影片編號版面配置區 1"/>
          <p:cNvSpPr/>
          <p:nvPr/>
        </p:nvSpPr>
        <p:spPr>
          <a:xfrm>
            <a:off x="8675640" y="645804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2D63-2EE2-43B0-A354-6F11A16AD278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9200" y="620640"/>
          <a:ext cx="9055440" cy="6118200"/>
        </p:xfrm>
        <a:graphic>
          <a:graphicData uri="http://schemas.openxmlformats.org/drawingml/2006/table">
            <a:tbl>
              <a:tblPr/>
              <a:tblGrid>
                <a:gridCol w="2692440"/>
                <a:gridCol w="507960"/>
                <a:gridCol w="2946600"/>
                <a:gridCol w="436680"/>
                <a:gridCol w="247176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貳、營造健康生活環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指標及調整配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1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成年人及長者身體活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天天五蔬果攝取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生活型態成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運動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歲以上肥胖盛行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指標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調整為「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運動盛行率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刪除「提升天天五蔬果攝取比率」，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次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社區環境評估、行動改善計畫及成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設置社區營養衛生教育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「校園周邊健康飲食輔導示範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健康職場認證目標達成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辦理健康識能推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區健康生活型態營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肥胖防治宣導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「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圖像推廣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推動餐飲業者減鹽行動計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廣職場參與健康促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推動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『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我的餐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』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圖像推廣計畫」」及「推動餐飲業者減鹽行動計畫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各項指標細項配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1974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6" name="Rectangle 2"/>
          <p:cNvSpPr/>
          <p:nvPr/>
        </p:nvSpPr>
        <p:spPr>
          <a:xfrm>
            <a:off x="324000" y="-10008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3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投影片編號版面配置區 1"/>
          <p:cNvSpPr/>
          <p:nvPr/>
        </p:nvSpPr>
        <p:spPr>
          <a:xfrm>
            <a:off x="8675640" y="6453360"/>
            <a:ext cx="541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DAF5-1700-48C9-8AE1-56607C459D3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8" name=""/>
          <p:cNvGraphicFramePr/>
          <p:nvPr/>
        </p:nvGraphicFramePr>
        <p:xfrm>
          <a:off x="11160" y="260280"/>
          <a:ext cx="9132840" cy="6697800"/>
        </p:xfrm>
        <a:graphic>
          <a:graphicData uri="http://schemas.openxmlformats.org/drawingml/2006/table">
            <a:tbl>
              <a:tblPr/>
              <a:tblGrid>
                <a:gridCol w="2949480"/>
                <a:gridCol w="579600"/>
                <a:gridCol w="3184560"/>
                <a:gridCol w="650880"/>
                <a:gridCol w="1768320"/>
              </a:tblGrid>
              <a:tr h="3661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1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計畫名稱及考評指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配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差異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marL="92160" indent="-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老年健康促進相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47840" indent="-44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参、中老年健康促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增刪及調整指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a9ed"/>
                    </a:solidFill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營造高齡友善社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認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活躍老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6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長者規律運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高齡友善社區涵蓋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縣市長者組隊參與活躍老化競賽活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大眾對失智症的認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增「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長者參與社區健促活動比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「提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眾對失智症的認知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」，以營造失智支持友善環境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尿液微量白蛋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croalbumin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衛生所慢性病防治照護量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以上民眾對腰圍警戒值認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推動慢性病照護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轄區糖尿病患加入糖尿病品質支付服務方案比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轄區醫療院所糖尿病人眼底檢查或眼底彩色攝影之檢查率及進步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轄區機構推動健康促進服務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高齡友善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成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提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歲民眾利用成人預防保健服務及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型肝炎篩檢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之人數成長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規劃及推動高血壓防治方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輔導轄區基層診所參與慢性病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預防及糖尿病品質照護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要為新增「各縣市成人預防保健服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肝炎篩檢利用率」、「規劃及推動高血壓防治方案」及「輔導轄區基層診所參與慢性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含衰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預防及糖尿病品質照護服務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調整細項指標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6160" indent="-14616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9" name="Rectangle 2"/>
          <p:cNvSpPr/>
          <p:nvPr/>
        </p:nvSpPr>
        <p:spPr>
          <a:xfrm>
            <a:off x="468360" y="-243000"/>
            <a:ext cx="81597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貳、指標差異說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</a:rPr>
              <a:t>衛生保健工作計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9:44:09Z</dcterms:created>
  <dc:creator>ST</dc:creator>
  <dc:description/>
  <dc:language>en-US</dc:language>
  <cp:lastModifiedBy>健康服務品質政策辦公室周青慧</cp:lastModifiedBy>
  <cp:lastPrinted>2018-11-19T01:58:33Z</cp:lastPrinted>
  <dcterms:modified xsi:type="dcterms:W3CDTF">2018-11-23T10:17:39Z</dcterms:modified>
  <cp:revision>1966</cp:revision>
  <dc:subject/>
  <dc:title>醫學人文導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